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E1FB6-1DF5-494A-A36C-388A0AC88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E13D-54E6-48BE-93E6-CAE22B10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C6251-19CC-48E4-97E4-DA3E1B24C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E64F0-953D-4F37-B8F5-E40D3169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A328B-9E64-482D-9878-211DFBB53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F1CE2-B0A6-4AB6-BF4E-49DDAF25D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FD17E-ECC7-45A2-9CCD-FC7DBCC42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1DEC1-5F60-4260-A599-18DF8857E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995E3-E847-4D8B-ABCE-C801FE756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9E74F-8875-41A6-BBA1-861E1F184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2928-00F4-49DD-81C9-FBFA25AAA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7F20-BA50-45A5-973C-AA5E5548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FD218-BA86-421B-84BD-835D12664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14A3C-1361-4BD0-96AD-AF99D71B1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7A220-C0B2-44DF-91DB-89742F1F7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0DE9D-A619-4D13-95F7-E1BCA19BB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47EF9-AE90-483E-A8C5-302E5EB2B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FA3918-CD83-4E41-8D4D-F13440E3A6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1C063-FDDC-463B-A1ED-1C785AA9EB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CD0653-1602-4EFA-9056-175A7C190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CB179-C5C8-4759-830B-85BF15008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73C7F-5FE1-4495-8D10-92962BD08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39A97-44BF-4867-B35E-02471AD9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84655-5507-4992-9587-2762469E0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BB72B-9ABA-46E6-AB11-D4C9B1109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C0425-99F6-429B-A2C8-A7720BDF0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69D33-0F25-451E-B37F-15510457B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2910A-7E9D-4AF2-9F16-ACE55DB3D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7FA8C6-CEB6-4429-8AB3-C6E43CFCA0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12763-B043-46DD-9DB3-305B8B66F3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720AA7-02FC-4A0D-9F18-4025B0301C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7F30C-773B-4C65-A7DB-071D88749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3765F-BB44-4A99-9C79-CD761FF56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10C64-0FA0-4057-9BE3-1335D3FA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295DD-70A2-44DB-A65C-02965E18F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D3275-F4BF-4812-B1FD-6ADC1DDEF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A82C4E-6B16-4B26-9C2D-2D1EE506D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A64F6-59A5-4695-B3B7-A18385913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D877F-96F3-449B-A5A2-E1CDA4B98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0BEFC-68EA-44B9-AAA8-23FC6C5F2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FE52F-AB4E-4163-BB4B-346FE0C21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09275-5F4F-4C1A-9B3F-0E259E11D3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E6C029-767E-4A10-B287-516C7FE590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6F4FF-5128-47DF-9629-EF2B2C745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8566-B089-4C9A-821C-E71906B4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5D7B-76CD-4240-96A6-2491CD5F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33010-542A-4E49-8EB3-CD168D94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BE4F3-6CA1-4C0A-95F2-8A8FA37A2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404A-4C71-4B9A-8DAE-72D5AE092E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F017-FF59-4272-BE3F-5D7F14883A9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90BA-8310-4050-BB4A-46810954325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E94C-AB60-418F-88E8-E3C6108B75C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7864560" cy="1890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Vilas Patil</a:t>
            </a:r>
            <a:endParaRPr b="0" lang="en-US" sz="2600" spc="-1" strike="noStrike">
              <a:solidFill>
                <a:srgbClr val="ffffff"/>
              </a:solidFill>
              <a:latin typeface="Constantia"/>
            </a:endParaRPr>
          </a:p>
        </p:txBody>
      </p:sp>
      <p:sp>
        <p:nvSpPr>
          <p:cNvPr id="197" name="Text Box 4"/>
          <p:cNvSpPr/>
          <p:nvPr/>
        </p:nvSpPr>
        <p:spPr>
          <a:xfrm>
            <a:off x="0" y="0"/>
            <a:ext cx="9144000" cy="18003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OWTH AND DISTRIBUTION OF SCHEDULED CASTE POPULATION IN KOLHAPUR DISTRICT OF MAHARASHT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0" y="0"/>
            <a:ext cx="9144000" cy="149580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RIBUTION OF SCHEDULED CASTE POPUL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TextBox 2"/>
          <p:cNvSpPr/>
          <p:nvPr/>
        </p:nvSpPr>
        <p:spPr>
          <a:xfrm>
            <a:off x="228600" y="1600200"/>
            <a:ext cx="8534520" cy="4786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rtion of scheduled caste population in Kolhapur district was 12.76 per cent in 2001. Maharashtra has low proportion of scheduled caste population than the study area but high proportion of scheduled caste population than study are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ahsil level the dissemination was very uneven in 2001. It is found that the proportion of non-scheduled caste population in Kolhapur district was 87.24 per cent in 200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able 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stribution of Scheduled Caste and Non- Scheduled Caste Population In Kolhapur District,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16" name=""/>
          <p:cNvGraphicFramePr/>
          <p:nvPr/>
        </p:nvGraphicFramePr>
        <p:xfrm>
          <a:off x="1143000" y="1295280"/>
          <a:ext cx="7086600" cy="4114800"/>
        </p:xfrm>
        <a:graphic>
          <a:graphicData uri="http://schemas.openxmlformats.org/drawingml/2006/table">
            <a:tbl>
              <a:tblPr/>
              <a:tblGrid>
                <a:gridCol w="419040"/>
                <a:gridCol w="1246320"/>
                <a:gridCol w="1104840"/>
                <a:gridCol w="1122480"/>
                <a:gridCol w="1062000"/>
                <a:gridCol w="1062000"/>
                <a:gridCol w="1069920"/>
              </a:tblGrid>
              <a:tr h="484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r. No</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 of Tahsi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SC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Non-SC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SC</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huwadi</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85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36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49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8.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nhal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3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9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839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7.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kanangle</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96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4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958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iro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917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10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507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9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rvir</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686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1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36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vd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52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00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dhanagari</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10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1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839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5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ga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823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7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47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hudarga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49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53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37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9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jr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143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5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1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5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dhinglaj</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25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1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10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3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ndga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078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2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375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316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964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352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2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harashtr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87862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88165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99697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9.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86103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663570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19746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TextBox 3"/>
          <p:cNvSpPr/>
          <p:nvPr/>
        </p:nvSpPr>
        <p:spPr>
          <a:xfrm>
            <a:off x="1143000" y="55627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a:t>
            </a:r>
            <a:r>
              <a:rPr b="0" i="1" lang="en-US" sz="1800" spc="-1" strike="noStrike">
                <a:solidFill>
                  <a:srgbClr val="000000"/>
                </a:solidFill>
                <a:latin typeface="Times New Roman"/>
              </a:rPr>
              <a:t>Based on District Census Handbook, Kolhapur District,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0" y="0"/>
            <a:ext cx="9144000" cy="91692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stribution of Scheduled Caste And Non- Scheduled Caste Population In Kolhapur District, 20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9" name="Picture 2" descr=""/>
          <p:cNvPicPr/>
          <p:nvPr/>
        </p:nvPicPr>
        <p:blipFill>
          <a:blip r:embed="rId1"/>
          <a:srcRect l="0" t="11960" r="0" b="4387"/>
          <a:stretch/>
        </p:blipFill>
        <p:spPr>
          <a:xfrm>
            <a:off x="304920" y="1295280"/>
            <a:ext cx="84582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0" y="0"/>
            <a:ext cx="9144000" cy="7340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CLUSION</a:t>
            </a:r>
            <a:endParaRPr b="0" lang="en-US" sz="2400" spc="-1" strike="noStrike">
              <a:solidFill>
                <a:srgbClr val="000000"/>
              </a:solidFill>
              <a:latin typeface="Times New Roman"/>
            </a:endParaRPr>
          </a:p>
        </p:txBody>
      </p:sp>
      <p:sp>
        <p:nvSpPr>
          <p:cNvPr id="221" name="TextBox 2"/>
          <p:cNvSpPr/>
          <p:nvPr/>
        </p:nvSpPr>
        <p:spPr>
          <a:xfrm>
            <a:off x="0" y="762120"/>
            <a:ext cx="9144000" cy="6066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bserved that, the growth rate of scheduled caste population in the study area was 18.01 per cent and non-scheduled caste was 17.83 per cent in 2001.</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found that, Kolhapur district the proportion of scheduled caste population was 12.76 per cent in 2001. </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dentified that the concentration of scheduled caste population lowest in Ajra tahsil and highest in Shirol tahsil.</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five tahsils such as Kagal, Karvir, Bavda, Hatkanangle and Shirol their concentration of population was above the average and remaining six tahsils was below the average. </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mainly suggested that the socio-economic development planning should take place in backward area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WordArt 3"/>
          <p:cNvSpPr txBox="1"/>
          <p:nvPr/>
        </p:nvSpPr>
        <p:spPr>
          <a:xfrm>
            <a:off x="914400" y="198108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304920" y="990720"/>
            <a:ext cx="861048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present paper intends to analysis the growth and distribution of scheduled caste population in Kolhapur district of Maharashtra. </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aper is mainly based on secondary source of data collected from various sources such as district census hand book, socio-economic abstract, SC/ST reports etc. </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ype of analysis is useful for the socio-economic development planning purpose</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d castes mean such castes, races or tribes or parts of or groups within castes, races or tribes as are deemed under Article 341 of the Constitution to be the scheduled castes for the purpose of the constitution </a:t>
            </a:r>
            <a:endParaRPr b="0" lang="en-US" sz="2400" spc="-1" strike="noStrike">
              <a:solidFill>
                <a:srgbClr val="000000"/>
              </a:solidFill>
              <a:latin typeface="Times New Roman"/>
            </a:endParaRPr>
          </a:p>
        </p:txBody>
      </p:sp>
      <p:sp>
        <p:nvSpPr>
          <p:cNvPr id="199" name="TextBox 2"/>
          <p:cNvSpPr/>
          <p:nvPr/>
        </p:nvSpPr>
        <p:spPr>
          <a:xfrm>
            <a:off x="0" y="0"/>
            <a:ext cx="9144000" cy="916920"/>
          </a:xfrm>
          <a:prstGeom prst="rect">
            <a:avLst/>
          </a:prstGeom>
          <a:solidFill>
            <a:srgbClr val="009d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685800" y="609480"/>
            <a:ext cx="784872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OBJECTIVE</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 </a:t>
            </a:r>
            <a:r>
              <a:rPr b="1" lang="en-US" sz="3600" spc="-1" strike="noStrike">
                <a:solidFill>
                  <a:srgbClr val="000000"/>
                </a:solidFill>
                <a:latin typeface="Times New Roman"/>
              </a:rPr>
              <a:t>Present paper aims to study the growth and distribution of scheduled caste population in the Kolhapur district.</a:t>
            </a:r>
            <a:endParaRPr b="0" lang="en-US" sz="3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304920" y="533520"/>
            <a:ext cx="8458200" cy="442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STUDY AREA</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rPr>
              <a:t>The Kolhapur district of Maharashtra state has been selected as an area for the present investigation. It lies between 15</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3’north and 17</a:t>
            </a:r>
            <a:r>
              <a:rPr b="1" lang="en-US" sz="3600" spc="-1" strike="noStrike" baseline="30000">
                <a:solidFill>
                  <a:srgbClr val="6600ff"/>
                </a:solidFill>
                <a:latin typeface="Times New Roman"/>
              </a:rPr>
              <a:t>0</a:t>
            </a:r>
            <a:r>
              <a:rPr b="1" lang="en-US" sz="3600" spc="-1" strike="noStrike">
                <a:solidFill>
                  <a:srgbClr val="6600ff"/>
                </a:solidFill>
                <a:latin typeface="Times New Roman"/>
              </a:rPr>
              <a:t>17’ north latitude and 73</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0’east and 74</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2’ east longitude, comprising 12 tahsi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380880" y="990720"/>
            <a:ext cx="845820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 </a:t>
            </a:r>
            <a:r>
              <a:rPr b="0" lang="en-US" sz="3200" spc="-1" strike="noStrike">
                <a:solidFill>
                  <a:srgbClr val="000000"/>
                </a:solidFill>
                <a:latin typeface="Times New Roman"/>
              </a:rPr>
              <a:t>The present paper intends to analysis the growth and distribution of scheduled caste population in Kolhapur district. </a:t>
            </a:r>
            <a:endParaRPr b="0" lang="en-US" sz="32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based on the secondary source of data mainly collected from District Census Handbooks and Socio-Economic Abstract of Kolhapur district, Government SC/ST reports, etc. </a:t>
            </a:r>
            <a:endParaRPr b="0" lang="en-US" sz="3200" spc="-1" strike="noStrike">
              <a:solidFill>
                <a:srgbClr val="000000"/>
              </a:solidFill>
              <a:latin typeface="Times New Roman"/>
            </a:endParaRPr>
          </a:p>
        </p:txBody>
      </p:sp>
      <p:sp>
        <p:nvSpPr>
          <p:cNvPr id="203" name="TextBox 3"/>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ATABASE AND METHODOLOG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04920" y="380880"/>
            <a:ext cx="8153280" cy="729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percentage of scheduled caste population to the total population in the tahsil has been computed. Tahsil wise simple decadal growth rate has been computed by employing the fallowing formul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 – Pt</a:t>
            </a:r>
            <a:r>
              <a:rPr b="1"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wth Rate = </a:t>
            </a:r>
            <a:r>
              <a:rPr b="1" lang="en-US" sz="3200" spc="-1" strike="noStrike">
                <a:solidFill>
                  <a:srgbClr val="000000"/>
                </a:solidFill>
                <a:latin typeface="Times New Roman"/>
              </a:rPr>
              <a:t>	</a:t>
            </a:r>
            <a:r>
              <a:rPr b="1" lang="en-US" sz="3200" spc="-1" strike="noStrike">
                <a:solidFill>
                  <a:srgbClr val="000000"/>
                </a:solidFill>
                <a:latin typeface="Times New Roman"/>
              </a:rPr>
              <a:t> ------------------ x 100</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t</a:t>
            </a:r>
            <a:r>
              <a:rPr b="1"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r>
              <a:rPr b="0" lang="en-US" sz="3200" spc="-1" strike="noStrike">
                <a:solidFill>
                  <a:srgbClr val="000000"/>
                </a:solidFill>
                <a:latin typeface="Times New Roman"/>
              </a:rPr>
              <a:t>	</a:t>
            </a:r>
            <a:r>
              <a:rPr b="0" lang="en-US" sz="3200" spc="-1" strike="noStrike">
                <a:solidFill>
                  <a:srgbClr val="000000"/>
                </a:solidFill>
                <a:latin typeface="Times New Roman"/>
              </a:rPr>
              <a:t>P1 = Population of previous deca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2 = Population of current deca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TextBox 2"/>
          <p:cNvSpPr/>
          <p:nvPr/>
        </p:nvSpPr>
        <p:spPr>
          <a:xfrm>
            <a:off x="0" y="0"/>
            <a:ext cx="9144000" cy="9471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BASE AND METHODOLO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0"/>
            <a:ext cx="9144000" cy="10083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ROWTH RATE OF SCHEDULED CASTE POPUL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TextBox 2"/>
          <p:cNvSpPr/>
          <p:nvPr/>
        </p:nvSpPr>
        <p:spPr>
          <a:xfrm>
            <a:off x="304920" y="990720"/>
            <a:ext cx="8534160" cy="4968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of scheduled caste population in India was 20.56 per cent in 1991-2001. </a:t>
            </a: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of non-schedule population in India was 21.73 per cent per cent in 1991-2001. </a:t>
            </a: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rate of scheduled caste population in Maharashtra in 1991-2001 was 12.83 per cent and non- scheduled caste population was 23.96 per cent. It is clear that, the growth of the non-scheduled caste population was high in both state as well as country as a wh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able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rowth Rate of Scheduled Caste and Non- Scheduled Caste Population in Kolhapur District 1991-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9" name=""/>
          <p:cNvGraphicFramePr/>
          <p:nvPr/>
        </p:nvGraphicFramePr>
        <p:xfrm>
          <a:off x="304920" y="1295280"/>
          <a:ext cx="8534160" cy="4657680"/>
        </p:xfrm>
        <a:graphic>
          <a:graphicData uri="http://schemas.openxmlformats.org/drawingml/2006/table">
            <a:tbl>
              <a:tblPr/>
              <a:tblGrid>
                <a:gridCol w="480960"/>
                <a:gridCol w="1401840"/>
                <a:gridCol w="1185840"/>
                <a:gridCol w="1185840"/>
                <a:gridCol w="1199880"/>
                <a:gridCol w="1236960"/>
                <a:gridCol w="965160"/>
                <a:gridCol w="877680"/>
              </a:tblGrid>
              <a:tr h="776520">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r. No</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me of Tahsils</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 Population 19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 Population 20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SC Population 19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 SC Population 20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SC  Growth Rate</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owth Rate</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huwadi</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99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6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58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64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nhal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28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99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059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839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3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kanangle</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54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04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279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958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7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7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irol</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52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10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456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507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3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3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rvir</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78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31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864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36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4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vd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9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78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00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7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adhanagari</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2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71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111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83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gal</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75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565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547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0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4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hudargad</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69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3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85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37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jr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1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25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51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118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dhinglaj</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63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14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696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310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dgad</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1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24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75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9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olhapur District</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102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964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0847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735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6600" rIns="66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harashtra</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75784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88165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017934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69969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9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gridSpan="2">
                  <a:txBody>
                    <a:bodyPr lIns="66600" rIns="66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a</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822327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663570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0807941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6197462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7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TextBox 3"/>
          <p:cNvSpPr/>
          <p:nvPr/>
        </p:nvSpPr>
        <p:spPr>
          <a:xfrm>
            <a:off x="762120" y="6095880"/>
            <a:ext cx="73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a:t>
            </a:r>
            <a:r>
              <a:rPr b="0" i="1" lang="en-US" sz="1800" spc="-1" strike="noStrike">
                <a:solidFill>
                  <a:srgbClr val="000000"/>
                </a:solidFill>
                <a:latin typeface="Times New Roman"/>
              </a:rPr>
              <a:t>Based on District Census Handbook, Kolhapur District,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0" y="0"/>
            <a:ext cx="9144000" cy="12524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rowth Rate of Scheduled Caste and Non- Scheduled Caste Population in Kolhapur District 1991- 2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2" name="Picture 2" descr=""/>
          <p:cNvPicPr/>
          <p:nvPr/>
        </p:nvPicPr>
        <p:blipFill>
          <a:blip r:embed="rId1"/>
          <a:stretch/>
        </p:blipFill>
        <p:spPr>
          <a:xfrm>
            <a:off x="304920" y="1371600"/>
            <a:ext cx="8381880" cy="4952880"/>
          </a:xfrm>
          <a:prstGeom prst="rect">
            <a:avLst/>
          </a:prstGeom>
          <a:ln w="28440">
            <a:solidFill>
              <a:srgbClr val="c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6:36:29Z</dcterms:created>
  <dc:creator>a</dc:creator>
  <dc:description/>
  <dc:language>en-US</dc:language>
  <cp:lastModifiedBy>comp</cp:lastModifiedBy>
  <dcterms:modified xsi:type="dcterms:W3CDTF">2018-05-05T02:59:22Z</dcterms:modified>
  <cp:revision>35</cp:revision>
  <dc:subject/>
  <dc:title>Slide 1</dc:title>
</cp:coreProperties>
</file>